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A2F-C60B-42D8-8FFF-8679CA9E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A69-A783-4F3B-949C-DEFF9F5A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997-FD12-4D64-8BCC-879471CD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E80-D6AF-4683-80F5-73A83DC7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DD1D-82EF-45AB-AC4A-0B74F5E2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5C1C-CA35-4B7E-8D38-1BA55EC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8E6D-D5D4-415F-8B14-2A57A703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7FDB-E4CB-4BF7-A0D8-CFE7703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B8A9-3871-4AA7-BF67-5B54785A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588F-6929-49A1-AC3C-FAE6BD8A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13FB-C109-4E33-A451-DA6532D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A85-9D6F-4C7F-9B06-1C1E1413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8DBE-717F-4DF6-8C58-87A2F5E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0270-DFCC-4DE1-9D4B-7599F20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F567-862E-424D-B664-44E67296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8C5F-953C-4660-9BDB-7A543FEE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CB8B-55D4-4E31-9548-CE7F861D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484-49FE-4EBB-B4A5-D1AF0A9B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936-674E-4F8C-9E98-58A80C56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CBA-F26D-41DD-BEB0-BE394143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13C-8CC8-4EDE-A54C-977AA4E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35C-B11E-485E-BF71-17365EF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007-B35D-4BBA-ADC8-C8A2038E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915-BF35-4E3A-A433-83DC3B4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0FD-1296-44B1-9093-32A0D6951A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C49B-40F3-42A6-8F64-C4CDC7B50B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3436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777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561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7770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489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520560"/>
            <a:ext cx="7416720" cy="59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452520"/>
            <a:ext cx="78487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9:08:14Z</dcterms:modified>
  <cp:revision>7</cp:revision>
  <dc:subject/>
  <dc:title>Схема из источника, ключа и резистора </dc:title>
</cp:coreProperties>
</file>